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03B59-B0AB-47D5-B80A-93724D0D9C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72EBB-0D14-440A-9CD8-84197CD637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CA67-FB08-4C08-B5AA-0EBB8322B5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1DF85-D305-4CA9-B104-56D96A1DBE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ED65-463F-482F-85D1-65A46C59B7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CC78-ADA4-4F04-BD13-BFFBACBA25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242C6-F478-4EFD-A262-8086E6C616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0A757-6C97-445A-BA4C-560DD90C91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F2D75-6039-4506-A5F6-9EFEE593CE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A832-0B35-4087-AD6A-FF86A22266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E9C41-5C1E-4292-B56F-7056D24B95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1327-7CC6-4DE9-867C-95CE096A9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10BD-FE9C-40A3-9BAC-6863286D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D7F4-6EC9-4C35-9FA2-A717975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9DBD-88BE-4D87-8D95-5C6B9A5F7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FB7B-7D1B-4C64-9761-D2397E6C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570D-7F15-4CD5-B0D8-349560C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F3CD-AF16-47AF-9AC4-D058906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D567-3A7D-4B56-8F1F-00D00E3F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D573-257A-4FF3-B4B4-24B11B5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BC7B-D579-483A-945F-93968F3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E800-9826-4CF2-969D-5091FC80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3DC3-5BB4-4FCA-879D-72DA65E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52778D-2255-456D-A40A-794565C26AD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224000"/>
            <a:ext cx="374472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ísico, teólogo, inventor y alquimista inglés nacido en 164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o de los primeros investigadores en postular que la composición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era diferente a l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ndo su famosa ley de la gravedad, dedujo qu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teriales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debían tener aproximadamente el doble de densidad que 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saac New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48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9 CuadroTexto"/>
          <p:cNvSpPr/>
          <p:nvPr/>
        </p:nvSpPr>
        <p:spPr>
          <a:xfrm>
            <a:off x="457200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1197000"/>
            <a:ext cx="4284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eorólogo y sismólogo nacido en Croacia en 18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zo importantes estudios sobr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lima, pero pasaría a la historia por descubrir la discontinuidad que separa la corteza del manto, siendo el primer científico en descubrir una de las discontinuidades entre las capas del interior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ideas no fueron comprendidas ni aceptadas hasta muchos años despu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drija Mohorovic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73440" cy="5052960"/>
          </a:xfrm>
          <a:prstGeom prst="rect">
            <a:avLst/>
          </a:prstGeom>
          <a:ln w="0">
            <a:noFill/>
          </a:ln>
        </p:spPr>
      </p:pic>
      <p:sp>
        <p:nvSpPr>
          <p:cNvPr id="80" name="9 CuadroTexto"/>
          <p:cNvSpPr/>
          <p:nvPr/>
        </p:nvSpPr>
        <p:spPr>
          <a:xfrm>
            <a:off x="5219640" y="59500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drija Mohorovic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9640" y="1628640"/>
            <a:ext cx="45370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o alemán nacido en 18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octoró a los 22 años, y a los 25 ya había realizado el descubrimiento por el que pasaría a la historia, la discontinuidad entre el manto y el núcle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es conocido por ser uno de los que creó, junto a Charles Ritcher, la famosa escala Ritcher para medi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tensidad de los seís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eno Gut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16360" cy="5241960"/>
          </a:xfrm>
          <a:prstGeom prst="rect">
            <a:avLst/>
          </a:prstGeom>
          <a:ln w="0">
            <a:noFill/>
          </a:ln>
        </p:spPr>
      </p:pic>
      <p:sp>
        <p:nvSpPr>
          <p:cNvPr id="89" name="9 CuadroTexto"/>
          <p:cNvSpPr/>
          <p:nvPr/>
        </p:nvSpPr>
        <p:spPr>
          <a:xfrm>
            <a:off x="5003640" y="6021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o Gutenbe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992160"/>
            <a:ext cx="4824360" cy="52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a y matemática danesa nacida en 188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28 fue declarada jefa del departamento de sismología del Real Instituto Geodésico Danés, donde ejerció su profesión durante 25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36 publicó el descubrimient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scontinuidad que separa el núcleo externo (fundido), del interno (sól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ió en1993, a los 104 años de edad, tras una vida llena de aportes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ología. Tales fueron sus méritos que en 1995 se crea la medalla Lehmann, otorgada a los que hacen grandes aportes al descubrimiento de la estructura de la Tier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620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nge Leh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70520"/>
          </a:xfrm>
          <a:prstGeom prst="rect">
            <a:avLst/>
          </a:prstGeom>
          <a:ln w="0">
            <a:noFill/>
          </a:ln>
        </p:spPr>
      </p:pic>
      <p:sp>
        <p:nvSpPr>
          <p:cNvPr id="98" name="9 CuadroTexto"/>
          <p:cNvSpPr/>
          <p:nvPr/>
        </p:nvSpPr>
        <p:spPr>
          <a:xfrm>
            <a:off x="5364000" y="59500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 Lehm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2T09:50:18Z</dcterms:modified>
  <cp:revision>47</cp:revision>
  <dc:subject/>
  <dc:title>Diapositiva 1</dc:title>
</cp:coreProperties>
</file>